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png" ContentType="image/png"/>
  <Override PartName="/ppt/media/image8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AA8-4E52-4FBF-8468-F3B7CD8FC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ктеристике поједини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поузда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но све методе са обележаним антителима (некомпетитивне) с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е вулнерабилне и поузданије од метода са обележаним антиген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M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улнерабилније у погледу ефикасности одвајањ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ирајућег носиоца информација, а то је најчешће еуропијум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 бити критична хемикалија за одваја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Eu (enhance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е су веома вулнерабилне како у погледу микроклиматских у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ијента, тако и у погледу тренутка прекидања инкубациј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аље су методе где је носилац информације радиоактивни изо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с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MA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јпоузданије мет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е су им низак степен комфора у извођењу, зрачење од 12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ња могућност исплативог извођења појединачних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F0A6-2BA9-4A5F-9E13-E4A7110C30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6B46-3EFF-4931-87B1-1DBB038722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38D4-6969-4997-AA4C-39D7A6769E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B35B-C779-4D12-8374-BDD263DD1E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menjuju se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dva tipa izvor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kontinualnog zra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ja: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termi</a:t>
            </a:r>
            <a:r>
              <a:rPr b="1" lang="sr-Latn-CS" sz="1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ki izvor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) izvori sa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elektr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im pr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njenj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 term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ke izvore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spadaju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lampe 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sa zagrevanom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niti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 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tapi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m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spiral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Zagrev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je naj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ć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 napravljeno od t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topljivih metala (W),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njihovih legura ili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oksida pojedinih metala.</a:t>
            </a:r>
            <a:r>
              <a:rPr b="1" lang="sr-R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Usijana nit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ovih lampi, koje se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pribli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ž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no po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n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sr-Latn-CS" sz="1200" spc="-1" strike="noStrike">
                <a:solidFill>
                  <a:srgbClr val="1f497d"/>
                </a:solidFill>
                <a:latin typeface="Calibri"/>
              </a:rPr>
              <a:t>š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aju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kao crno telo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, emituju kontinualan spektar sa </a:t>
            </a:r>
            <a:r>
              <a:rPr b="1" lang="it-IT" sz="1200" spc="-1" strike="noStrike">
                <a:solidFill>
                  <a:srgbClr val="1f497d"/>
                </a:solidFill>
                <a:latin typeface="Calibri"/>
              </a:rPr>
              <a:t>energetskom raspodelom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 koja je odre</a:t>
            </a: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ena </a:t>
            </a:r>
            <a:r>
              <a:rPr b="1" lang="it-IT" sz="1200" spc="-1" strike="noStrike">
                <a:solidFill>
                  <a:srgbClr val="0000ff"/>
                </a:solidFill>
                <a:latin typeface="Calibri"/>
              </a:rPr>
              <a:t>temperaturom te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5132-3488-479C-927C-CCC2301FF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949-A358-45F8-9517-B084F545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0B2-9B85-4FC2-8962-D46751FA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66F-4594-4D36-8B81-373EBEDB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6DF-7161-431D-B04D-E7C0AA26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C57C-AF53-4B4E-A7A7-C00A51C0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74B-6DFC-47AB-B157-3A530536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36D-21F8-4C21-BEFA-FA04E567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83B5-17BB-43F4-966F-9FE72BF3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16C3-CA71-48D3-9D50-A8E3F1FD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C56-8A2C-4D5C-9A54-062B668A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353A-3BE3-4754-8F11-9510FA1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BB8-9603-4EE0-974F-7F67472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43B-C5C5-46CA-919D-A8C60FC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059-B1BC-48FC-9257-1EDDFD3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B7E-7E60-4B7B-A072-E2E3E3D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CC2-C603-4896-A9FA-BEE34A7B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11D1-6184-4F74-B575-10BF69C2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9B84-FD84-4999-BB9A-7EACA5E6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5A80-AE08-45EA-A338-1DCD500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DDA1-1CE6-4E76-AD02-192D6E94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4220-BA19-4720-B367-B9378F2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DBC7-D535-447D-9082-B0197B4E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D2B-3043-4472-8585-794653A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1D0E-2C95-4B1F-A68B-4A483C4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A02C-F92A-4163-93B0-65E59C4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4B93-D5DD-4434-80AC-40DAC9A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547D-805C-4088-9521-083474F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A4F22-60C7-4FDE-9CCF-29EE166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543B-291E-4DC2-9A8B-83AFC416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867D-E40A-4ACF-A9C0-9D813CA2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48E2-155C-409F-AFA6-48E4A9B0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C0F3-3D47-471E-A6A4-14EEDA1E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925A0-799B-47AE-BD1E-3AE166F2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4F4-2E4B-467C-9045-602DF06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DEB4-FDA1-4426-A111-A5F3FAF0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4F03-A2DA-4E79-AEFD-7458537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2D80-BB7A-470D-9A3A-534FF1B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41D7-5E18-49FF-B362-901D6BE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3661-644C-44EB-B61E-2CC3832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1A90-9A16-410D-906D-166A0D4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AC97-87E9-46D1-9DD3-0076F42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2C8F-8E3F-4990-8CC0-F46B77AE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087A-E098-402A-8CE3-FF6CBD22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5D0FF-3687-4D77-9887-A70A314B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56E-BBAC-467D-AE6A-3BE08BC0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AAC3-D1C5-4BEA-86AB-0D4ABA9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ACFD-6E7E-4E4B-92D9-344A9CE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52A0-168C-4FCC-A48D-2AC570E1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7B4C-8C75-4FEC-93F1-E6C3CC52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6C78-C554-44A6-98F8-5E9C2B2B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6E85-31C8-4F4C-9D66-883F023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6FD90-F923-4540-A13C-9204758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58AF-D452-4F0E-AC15-785F2482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AF5B-BEA1-4F8F-8D2A-FEFC4E72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70362-5928-47B1-9558-6F97773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D31-5272-4AE6-999B-E6A84E4C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CCC2-DCBC-45E7-9A5D-83CE5250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0665-4531-4F98-A831-1086FA77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4A9A-5798-472B-9A61-3777690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C66CF-E420-43A3-9580-5589850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7F92F-9215-45DC-A0C6-0E089F2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0D98-4CE0-49B0-B4CA-1B4B5B04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2FAE-697D-42F7-AF89-9F70A66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D8A4-8882-4D80-94E1-02F7A4DE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E0434-7EBF-4499-9C5A-603DD56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5E7A-B5AF-4A53-AE9A-55D1817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27B-1E34-4B9B-ADA0-49E95B48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9BD8-23AB-4BF4-BA9F-4738C71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A552-A8D6-4A43-A80A-932D1E88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F9C6E-930B-4E80-A5D2-535C82CF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3B72-BA0F-4589-B7B0-63E34786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7B457-F13F-403D-A393-76CA53E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2919-0828-4DD8-BB77-E9B05AAD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F32A-502B-47CC-AB79-05C8B6BB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BAD3-AE52-45F0-85FD-4D4926E1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E748E-9A75-4446-AF81-0C516A2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B849-C4E5-4549-B02A-C3072E9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6C8-40DC-45E6-AFCF-0FECFD3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BBB0-DC7A-4F3F-A56B-42C5C97E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CA60-7994-4B8D-9091-E80E9C5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9B2D-30E5-471A-AB44-3AB7A7B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ADC9-5305-41AF-AA6F-2AF25CE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C28F0-B97D-4CBA-ABF4-E5D3504A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A1768-E457-481F-893D-66DE9842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A9024-3409-43F3-8F05-FED39FD9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D3B2-4D02-4FD3-A4F1-291897B4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BF2F1-984F-4E4F-875E-BBDD8370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DA44-E95E-407C-AD93-CFD5342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F12-AAA6-41C2-B4A5-996C85D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3A223-7608-4A95-A6CC-49A74AB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B641D-B6D8-40D9-92F4-F8246B1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E5BE9-5CE6-4E88-9B1B-16CA7BA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69C8B-3713-41C0-AFCE-B6F40DE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58230-26DC-4574-BE61-952B19D6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CF5D-C51C-47FB-A848-4D325A00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A031-731E-4B7B-A7CA-475BAD8C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C3C8-0327-4D85-84A4-7F909ACD96E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206360" y="2155680"/>
            <a:ext cx="9753840" cy="27720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1206360" y="2144880"/>
            <a:ext cx="303480" cy="2782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86A-E006-4ECA-9204-6BD56938277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488-89DA-4EA4-8796-306F97BA7F0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38C-6971-45DF-B029-5345B50657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5B1-CE71-4DC6-9B72-4B11A33CC36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ED20-DA91-45BF-BF9E-D46063AAD8C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609480" y="500040"/>
            <a:ext cx="24300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0526-50C7-47F0-8285-453897A86F4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87422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9C5-0C22-41A5-B7DC-B2EBE15A397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HPLC_apparatus.sv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en.wikipedia.org/wiki/File:Gas_chromatograph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High_accuracy_Low_precision.svg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upload.wikimedia.org/wikipedia/commons/3/3a/High_precision_Low_accuracy.svg" TargetMode="External"/><Relationship Id="rId4" Type="http://schemas.openxmlformats.org/officeDocument/2006/relationships/image" Target="../media/image33.png"/><Relationship Id="rId5" Type="http://schemas.openxmlformats.org/officeDocument/2006/relationships/hyperlink" Target="http://upload.wikimedia.org/wikipedia/commons/3/38/Accuracy_and_precision.svg" TargetMode="External"/><Relationship Id="rId6" Type="http://schemas.openxmlformats.org/officeDocument/2006/relationships/image" Target="../media/image34.png"/><Relationship Id="rId7" Type="http://schemas.openxmlformats.org/officeDocument/2006/relationships/hyperlink" Target="http://en.wikipedia.org/wiki/Specificity_(tests)" TargetMode="External"/><Relationship Id="rId8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70200" y="5180040"/>
            <a:ext cx="68580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есна Игњатовић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918320" y="522360"/>
            <a:ext cx="247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ИА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Calibri"/>
              </a:rPr>
              <a:t>БИО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2550960" y="23353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 ЗА ИСПИТИВАЊЕ БИОЛОШКИХ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ске техник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8" name="Content Placeholder 12" descr=""/>
          <p:cNvPicPr/>
          <p:nvPr/>
        </p:nvPicPr>
        <p:blipFill>
          <a:blip r:embed="rId1"/>
          <a:stretch/>
        </p:blipFill>
        <p:spPr>
          <a:xfrm>
            <a:off x="2263680" y="1971720"/>
            <a:ext cx="76644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72920" y="1216080"/>
            <a:ext cx="1079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1. оптичка или електронска спектроскопија-прелази електрона између молекуларних орбитала, промена структуре електронског омотача; спектри у видљивом и ултраљубичастом подручју (100-7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2. инфрацрвена спинска резонанција-прелази између вибрацијских стања; промена износа електричног диполног момента;спектри у инфрацрвеном подручју (800-1000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3. електронска спинска резонанција-прелази између спинских стања електрона у магнетском пољу; промена магнетског спинског момента електрона; спектри у подручју микровалова  (1-10 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c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4. нуклеарна магнетна резонација-прелази између спинских стања језгра у магнетнсом пољу; промена магнетског спинског момента језгра, спектри у подручју радиоталаса ( 1-10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nm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26680" y="1216080"/>
            <a:ext cx="110379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она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ктроскоп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луоресценција-молекули се побуђују ултравиолетним или ласерским зрачењем, релаксацијом у основно стање емитују зрачење у видљивом подручју. Молекули или веће структуре које немају флуорофоре обележавају се ковалнетним везивањем флуоресцентних проб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а: 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ог елемент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олошк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ал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у апсорпц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инк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Пост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зуел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удс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електрич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ћелијо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офотометрија: Савршен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шетк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призм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зликова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узет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ску границ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ласн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ж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лик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ре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нствени апсорпцио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ктр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једи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ко идентификује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редим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иметрија: Извесн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дињењ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особнос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ују светлос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есну количин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бова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буђен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и видљив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лу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оре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уминисценциј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Флу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лед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личн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лоримета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и поре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чива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едуј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екундарн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лтер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фотопојачива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8080" y="2755440"/>
            <a:ext cx="939168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МЕТОДЕ ОДРЕЂИВАЊА КОНЦЕНТРАЦИЈ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АКТИВНИХ СУПСТАНЦИ У БИОЛОШКОМ МАТЕРИЈАЛУ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27280" y="4266720"/>
            <a:ext cx="904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520560"/>
            <a:ext cx="4864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ИОЛОШКИ АКТИВНЕ СУПСТАНЦ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806120"/>
            <a:ext cx="53895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нзим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укти метаболи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еков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76520" y="1216080"/>
            <a:ext cx="53881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у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иквор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крети и екскре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к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нсудат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Freeform 4"/>
          <p:cNvSpPr/>
          <p:nvPr/>
        </p:nvSpPr>
        <p:spPr>
          <a:xfrm>
            <a:off x="5999040" y="1143000"/>
            <a:ext cx="1876680" cy="158760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929200" y="39384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ИОЛОШКИ МАТЕРИЈ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File:HPLC apparatu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7720" y="3030480"/>
            <a:ext cx="4905360" cy="219888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"/>
          <p:cNvGrpSpPr/>
          <p:nvPr/>
        </p:nvGrpSpPr>
        <p:grpSpPr>
          <a:xfrm>
            <a:off x="6543720" y="2676600"/>
            <a:ext cx="3905280" cy="2562120"/>
            <a:chOff x="6543720" y="2676600"/>
            <a:chExt cx="3905280" cy="2562120"/>
          </a:xfrm>
        </p:grpSpPr>
        <p:pic>
          <p:nvPicPr>
            <p:cNvPr id="404" name="Picture 2" descr="http://upload.wikimedia.org/wikipedia/commons/thumb/8/87/Gas_chromatograph.png/350px-Gas_chromatograph.pn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798960" y="3263040"/>
              <a:ext cx="3650040" cy="19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543720" y="2676600"/>
              <a:ext cx="3662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МЕТОД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09480" y="1463400"/>
            <a:ext cx="10972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имунолошке Анализе (методе сепарације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High Pressure Liquid Chromatography (HPLC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Gass Chromatography (G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Хроматограф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од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дваја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двај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 заступље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о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меш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ико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ра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 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чит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рзи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лас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упротн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нденцијо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једн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дсорпци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ог медијум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руг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ж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тварањ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растварач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тич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дијум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чврс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шовит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КРЕТ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овит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пушта кроз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окрет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д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рај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њ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вар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обар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ефицијент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сподел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кујемо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о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оноизмењивачк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рибуциону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пир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,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асну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гел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иј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матографски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тивн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биолошких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!!!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2211120" y="44784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199600" y="1998720"/>
            <a:ext cx="52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мунолош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34760" y="2597040"/>
            <a:ext cx="473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ети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мпетитив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1800360" y="1600200"/>
            <a:ext cx="5922720" cy="2333520"/>
          </a:xfrm>
          <a:custGeom>
            <a:avLst/>
            <a:gdLst>
              <a:gd name="textAreaLeft" fmla="*/ 0 w 5922720"/>
              <a:gd name="textAreaRight" fmla="*/ 5923080 w 5922720"/>
              <a:gd name="textAreaTop" fmla="*/ 0 h 2333520"/>
              <a:gd name="textAreaBottom" fmla="*/ 2333880 h 2333520"/>
            </a:gdLst>
            <a:ahLst/>
            <a:rect l="textAreaLeft" t="textAreaTop" r="textAreaRight" b="textAreaBottom"/>
            <a:pathLst>
              <a:path w="1303" h="1165">
                <a:moveTo>
                  <a:pt x="1071" y="223"/>
                </a:moveTo>
                <a:cubicBezTo>
                  <a:pt x="989" y="171"/>
                  <a:pt x="913" y="107"/>
                  <a:pt x="824" y="67"/>
                </a:cubicBezTo>
                <a:cubicBezTo>
                  <a:pt x="809" y="60"/>
                  <a:pt x="660" y="40"/>
                  <a:pt x="613" y="31"/>
                </a:cubicBezTo>
                <a:cubicBezTo>
                  <a:pt x="546" y="22"/>
                  <a:pt x="486" y="6"/>
                  <a:pt x="431" y="3"/>
                </a:cubicBezTo>
                <a:cubicBezTo>
                  <a:pt x="376" y="0"/>
                  <a:pt x="333" y="1"/>
                  <a:pt x="284" y="13"/>
                </a:cubicBezTo>
                <a:cubicBezTo>
                  <a:pt x="235" y="25"/>
                  <a:pt x="170" y="59"/>
                  <a:pt x="138" y="77"/>
                </a:cubicBezTo>
                <a:cubicBezTo>
                  <a:pt x="123" y="92"/>
                  <a:pt x="104" y="104"/>
                  <a:pt x="92" y="122"/>
                </a:cubicBezTo>
                <a:cubicBezTo>
                  <a:pt x="77" y="144"/>
                  <a:pt x="56" y="195"/>
                  <a:pt x="56" y="195"/>
                </a:cubicBezTo>
                <a:cubicBezTo>
                  <a:pt x="53" y="207"/>
                  <a:pt x="52" y="220"/>
                  <a:pt x="47" y="232"/>
                </a:cubicBezTo>
                <a:cubicBezTo>
                  <a:pt x="43" y="242"/>
                  <a:pt x="28" y="248"/>
                  <a:pt x="28" y="259"/>
                </a:cubicBezTo>
                <a:cubicBezTo>
                  <a:pt x="23" y="385"/>
                  <a:pt x="0" y="595"/>
                  <a:pt x="83" y="717"/>
                </a:cubicBezTo>
                <a:cubicBezTo>
                  <a:pt x="100" y="822"/>
                  <a:pt x="160" y="907"/>
                  <a:pt x="257" y="954"/>
                </a:cubicBezTo>
                <a:cubicBezTo>
                  <a:pt x="289" y="987"/>
                  <a:pt x="318" y="1036"/>
                  <a:pt x="357" y="1055"/>
                </a:cubicBezTo>
                <a:cubicBezTo>
                  <a:pt x="402" y="1077"/>
                  <a:pt x="433" y="1103"/>
                  <a:pt x="476" y="1128"/>
                </a:cubicBezTo>
                <a:cubicBezTo>
                  <a:pt x="515" y="1151"/>
                  <a:pt x="589" y="1108"/>
                  <a:pt x="632" y="1119"/>
                </a:cubicBezTo>
                <a:cubicBezTo>
                  <a:pt x="699" y="1164"/>
                  <a:pt x="638" y="1130"/>
                  <a:pt x="796" y="1146"/>
                </a:cubicBezTo>
                <a:cubicBezTo>
                  <a:pt x="830" y="1150"/>
                  <a:pt x="863" y="1160"/>
                  <a:pt x="897" y="1165"/>
                </a:cubicBezTo>
                <a:cubicBezTo>
                  <a:pt x="964" y="1162"/>
                  <a:pt x="1058" y="1109"/>
                  <a:pt x="1125" y="1101"/>
                </a:cubicBezTo>
                <a:cubicBezTo>
                  <a:pt x="1198" y="1092"/>
                  <a:pt x="1249" y="991"/>
                  <a:pt x="1281" y="927"/>
                </a:cubicBezTo>
                <a:cubicBezTo>
                  <a:pt x="1303" y="836"/>
                  <a:pt x="1299" y="863"/>
                  <a:pt x="1299" y="698"/>
                </a:cubicBezTo>
                <a:cubicBezTo>
                  <a:pt x="1299" y="525"/>
                  <a:pt x="1294" y="260"/>
                  <a:pt x="1107" y="168"/>
                </a:cubicBezTo>
                <a:cubicBezTo>
                  <a:pt x="1053" y="142"/>
                  <a:pt x="990" y="150"/>
                  <a:pt x="933" y="1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435760" y="4311720"/>
            <a:ext cx="59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ензи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do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mol/L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Mo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2205720" y="447840"/>
            <a:ext cx="68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ОБЕЛЕЖИВ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2211480" y="1919160"/>
            <a:ext cx="544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2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ел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ан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ни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 (Eu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, Sm, Dy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луминол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стри акри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5"/>
          <p:cNvSpPr/>
          <p:nvPr/>
        </p:nvSpPr>
        <p:spPr>
          <a:xfrm>
            <a:off x="1816200" y="2048040"/>
            <a:ext cx="298440" cy="28224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5"/>
          <p:cNvSpPr/>
          <p:nvPr/>
        </p:nvSpPr>
        <p:spPr>
          <a:xfrm>
            <a:off x="1797120" y="25527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5"/>
          <p:cNvSpPr/>
          <p:nvPr/>
        </p:nvSpPr>
        <p:spPr>
          <a:xfrm>
            <a:off x="1816200" y="3076560"/>
            <a:ext cx="298440" cy="282600"/>
          </a:xfrm>
          <a:custGeom>
            <a:avLst/>
            <a:gdLst/>
            <a:ahLst/>
            <a:rect l="l" t="t" r="r" b="b"/>
            <a:pathLst>
              <a:path w="298450" h="282575">
                <a:moveTo>
                  <a:pt x="0" y="107934"/>
                </a:moveTo>
                <a:lnTo>
                  <a:pt x="113998" y="107935"/>
                </a:lnTo>
                <a:lnTo>
                  <a:pt x="149225" y="0"/>
                </a:lnTo>
                <a:lnTo>
                  <a:pt x="184452" y="107935"/>
                </a:lnTo>
                <a:lnTo>
                  <a:pt x="298450" y="107934"/>
                </a:lnTo>
                <a:lnTo>
                  <a:pt x="206223" y="174640"/>
                </a:lnTo>
                <a:lnTo>
                  <a:pt x="241451" y="282574"/>
                </a:lnTo>
                <a:lnTo>
                  <a:pt x="149225" y="215867"/>
                </a:lnTo>
                <a:lnTo>
                  <a:pt x="56999" y="282574"/>
                </a:lnTo>
                <a:lnTo>
                  <a:pt x="92227" y="174640"/>
                </a:lnTo>
                <a:lnTo>
                  <a:pt x="0" y="1079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6"/>
          <p:cNvGrpSpPr/>
          <p:nvPr/>
        </p:nvGrpSpPr>
        <p:grpSpPr>
          <a:xfrm>
            <a:off x="7796880" y="1098720"/>
            <a:ext cx="2221920" cy="2430000"/>
            <a:chOff x="7796880" y="1098720"/>
            <a:chExt cx="2221920" cy="2430000"/>
          </a:xfrm>
        </p:grpSpPr>
        <p:sp>
          <p:nvSpPr>
            <p:cNvPr id="421" name="Rectangle 3"/>
            <p:cNvSpPr/>
            <p:nvPr/>
          </p:nvSpPr>
          <p:spPr>
            <a:xfrm>
              <a:off x="7796880" y="1971720"/>
              <a:ext cx="704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9059400" y="1909800"/>
              <a:ext cx="959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R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IF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7863120" y="1162080"/>
              <a:ext cx="618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65"/>
            <p:cNvSpPr/>
            <p:nvPr/>
          </p:nvSpPr>
          <p:spPr>
            <a:xfrm>
              <a:off x="8997840" y="11430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9245520" y="1098720"/>
              <a:ext cx="688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65"/>
            <p:cNvSpPr/>
            <p:nvPr/>
          </p:nvSpPr>
          <p:spPr>
            <a:xfrm>
              <a:off x="8105760" y="1184400"/>
              <a:ext cx="298440" cy="282240"/>
            </a:xfrm>
            <a:custGeom>
              <a:avLst/>
              <a:gdLst/>
              <a:ahLst/>
              <a:rect l="l" t="t" r="r" b="b"/>
              <a:pathLst>
                <a:path w="298285" h="282614">
                  <a:moveTo>
                    <a:pt x="0" y="107949"/>
                  </a:moveTo>
                  <a:lnTo>
                    <a:pt x="113935" y="107949"/>
                  </a:lnTo>
                  <a:lnTo>
                    <a:pt x="149143" y="0"/>
                  </a:lnTo>
                  <a:lnTo>
                    <a:pt x="184350" y="107949"/>
                  </a:lnTo>
                  <a:lnTo>
                    <a:pt x="298285" y="107949"/>
                  </a:lnTo>
                  <a:lnTo>
                    <a:pt x="206109" y="174664"/>
                  </a:lnTo>
                  <a:lnTo>
                    <a:pt x="241317" y="282613"/>
                  </a:lnTo>
                  <a:lnTo>
                    <a:pt x="149143" y="215896"/>
                  </a:lnTo>
                  <a:lnTo>
                    <a:pt x="56968" y="282613"/>
                  </a:lnTo>
                  <a:lnTo>
                    <a:pt x="92176" y="174664"/>
                  </a:lnTo>
                  <a:lnTo>
                    <a:pt x="0" y="10794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Основне компоненте оптичких инструменат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480" y="1687320"/>
            <a:ext cx="109728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ви уређаји за оптичку спектроскопију развијени су за анализу интеракције електромагнетног (ЕМ) зрачења и супстанци у видљивом делу спектра – отуда и назив оптички инструмен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ас оптички инструменти укључују инструменте који користе зрачење ултраљубичастог (УВ) и инфрацрвеног (ИР) дела спектра. Уређаји који се користе у ове три области ЕМ зрачења имају сличне делове, док се уређаји који користе зрачење чија је енергија већа од енергије УВ зрачења или мања од енергије ИР зрачења значајно разликуј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907-6E29-458F-BA3E-222FA4E91C01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0320" y="341280"/>
            <a:ext cx="8534160" cy="6370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9161640" y="33908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 prize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http://chemeducator.org/bibs/0007002/72012igk_gifs/image002.jpg"/>
          <p:cNvPicPr/>
          <p:nvPr/>
        </p:nvPicPr>
        <p:blipFill>
          <a:blip r:embed="rId2"/>
          <a:stretch/>
        </p:blipFill>
        <p:spPr>
          <a:xfrm>
            <a:off x="9680400" y="341280"/>
            <a:ext cx="2001960" cy="2984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834480" y="3852720"/>
            <a:ext cx="1695600" cy="223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9163080" y="618804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omon B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09480" y="1219320"/>
            <a:ext cx="1097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им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ор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инхибитор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ензимск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нцентровање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дилуција</a:t>
            </a:r>
            <a:r>
              <a:rPr b="0" lang="sr-Latn-CS" sz="2300" spc="-1" strike="noStrike">
                <a:solidFill>
                  <a:srgbClr val="000000"/>
                </a:solidFill>
                <a:latin typeface="Gill Sans MT"/>
              </a:rPr>
              <a:t>...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давањ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актаната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кубациј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парација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везане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зе</a:t>
            </a: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ре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чунавањ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4081320" y="49338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ритична фаза због веће могућ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станка манипулативне гре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МЕТРИЈСКЕ МЕТОД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имунолош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сатурацио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икроаналитич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хник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азира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нцип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међу биолошк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пстанци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лесним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ечности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х везујућ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диоактивн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отоп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езив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АНТИТЕЛ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РАНСПОРТ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УШТИ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Одређивањ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ређ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ема радиоактивности узор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прувет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ливањ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шк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бележен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mbria"/>
              </a:rPr>
              <a:t>Радиообележивач </a:t>
            </a:r>
            <a:r>
              <a:rPr b="1" lang="en-IN" sz="40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142640"/>
            <a:ext cx="11582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 u="sng">
                <a:solidFill>
                  <a:srgbClr val="000000"/>
                </a:solidFill>
                <a:uFillTx/>
                <a:latin typeface="Gill Sans MT"/>
              </a:rPr>
              <a:t>Iodine-125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мисија нискоенергетских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γ−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отон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35.4 keV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соко специфична активнос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реме полураспада</a:t>
            </a:r>
            <a:r>
              <a:rPr b="0" lang="en-IN" sz="2600" spc="-1" strike="noStrike">
                <a:solidFill>
                  <a:srgbClr val="000000"/>
                </a:solidFill>
                <a:latin typeface="Gill Sans MT"/>
              </a:rPr>
              <a:t>: 6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0 да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Јод је природни састојак тироксина и тријодтиронина. Може се лако увести у молекуле пептида, стероид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Радиоимунолошка мет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5875200" y="385920"/>
            <a:ext cx="5950080" cy="1122120"/>
          </a:xfrm>
          <a:prstGeom prst="rect">
            <a:avLst/>
          </a:prstGeom>
          <a:ln w="0">
            <a:noFill/>
          </a:ln>
        </p:spPr>
      </p:pic>
      <p:pic>
        <p:nvPicPr>
          <p:cNvPr id="441" name="Content Placeholder 8" descr=""/>
          <p:cNvPicPr/>
          <p:nvPr/>
        </p:nvPicPr>
        <p:blipFill>
          <a:blip r:embed="rId2"/>
          <a:stretch/>
        </p:blipFill>
        <p:spPr>
          <a:xfrm>
            <a:off x="285840" y="1638360"/>
            <a:ext cx="79628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Имунорадиометријска метод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7539120" y="279360"/>
            <a:ext cx="3579840" cy="1073160"/>
          </a:xfrm>
          <a:prstGeom prst="rect">
            <a:avLst/>
          </a:prstGeom>
          <a:ln w="0">
            <a:noFill/>
          </a:ln>
        </p:spPr>
      </p:pic>
      <p:pic>
        <p:nvPicPr>
          <p:cNvPr id="444" name="Content Placeholder 6" descr=""/>
          <p:cNvPicPr/>
          <p:nvPr/>
        </p:nvPicPr>
        <p:blipFill>
          <a:blip r:embed="rId2"/>
          <a:stretch/>
        </p:blipFill>
        <p:spPr>
          <a:xfrm>
            <a:off x="378000" y="1477800"/>
            <a:ext cx="7561080" cy="49435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8804160" y="2583000"/>
            <a:ext cx="26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ење обележеног аналита, обично антитела, је директно пропорционално количини антигена присутног у узорку- што је више антигена присутно, више обележено г антитела ће се вез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7599240" y="1330200"/>
            <a:ext cx="2741760" cy="3656160"/>
            <a:chOff x="7599240" y="1330200"/>
            <a:chExt cx="2741760" cy="3656160"/>
          </a:xfrm>
        </p:grpSpPr>
        <p:sp>
          <p:nvSpPr>
            <p:cNvPr id="447" name="Line 3"/>
            <p:cNvSpPr/>
            <p:nvPr/>
          </p:nvSpPr>
          <p:spPr>
            <a:xfrm>
              <a:off x="7913160" y="249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Picture 4" descr="Picture4"/>
            <p:cNvPicPr/>
            <p:nvPr/>
          </p:nvPicPr>
          <p:blipFill>
            <a:blip r:embed="rId1"/>
            <a:stretch/>
          </p:blipFill>
          <p:spPr>
            <a:xfrm>
              <a:off x="7599240" y="29383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Picture4"/>
            <p:cNvPicPr/>
            <p:nvPr/>
          </p:nvPicPr>
          <p:blipFill>
            <a:blip r:embed="rId2"/>
            <a:stretch/>
          </p:blipFill>
          <p:spPr>
            <a:xfrm>
              <a:off x="7599240" y="4512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Picture4"/>
            <p:cNvPicPr/>
            <p:nvPr/>
          </p:nvPicPr>
          <p:blipFill>
            <a:blip r:embed="rId3"/>
            <a:stretch/>
          </p:blipFill>
          <p:spPr>
            <a:xfrm>
              <a:off x="7599240" y="32889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7" descr="Picture4"/>
            <p:cNvPicPr/>
            <p:nvPr/>
          </p:nvPicPr>
          <p:blipFill>
            <a:blip r:embed="rId4"/>
            <a:stretch/>
          </p:blipFill>
          <p:spPr>
            <a:xfrm>
              <a:off x="7599240" y="360504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" descr="Picture4"/>
            <p:cNvPicPr/>
            <p:nvPr/>
          </p:nvPicPr>
          <p:blipFill>
            <a:blip r:embed="rId5"/>
            <a:stretch/>
          </p:blipFill>
          <p:spPr>
            <a:xfrm>
              <a:off x="7599240" y="388116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9" descr="Picture4"/>
            <p:cNvPicPr/>
            <p:nvPr/>
          </p:nvPicPr>
          <p:blipFill>
            <a:blip r:embed="rId6"/>
            <a:stretch/>
          </p:blipFill>
          <p:spPr>
            <a:xfrm>
              <a:off x="7599240" y="423612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AutoShape 10"/>
            <p:cNvSpPr/>
            <p:nvPr/>
          </p:nvSpPr>
          <p:spPr>
            <a:xfrm>
              <a:off x="7823880" y="3605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11"/>
            <p:cNvGrpSpPr/>
            <p:nvPr/>
          </p:nvGrpSpPr>
          <p:grpSpPr>
            <a:xfrm>
              <a:off x="8767440" y="2577960"/>
              <a:ext cx="258120" cy="320400"/>
              <a:chOff x="8767440" y="2577960"/>
              <a:chExt cx="258120" cy="320400"/>
            </a:xfrm>
          </p:grpSpPr>
          <p:sp>
            <p:nvSpPr>
              <p:cNvPr id="456" name="AutoShape 12"/>
              <p:cNvSpPr/>
              <p:nvPr/>
            </p:nvSpPr>
            <p:spPr>
              <a:xfrm>
                <a:off x="8807040" y="27792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Picture 13" descr="Picture4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8738640" y="2606760"/>
                <a:ext cx="315720" cy="258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8" name="Picture 14" descr="Picture4"/>
            <p:cNvPicPr/>
            <p:nvPr/>
          </p:nvPicPr>
          <p:blipFill>
            <a:blip r:embed="rId8"/>
            <a:stretch/>
          </p:blipFill>
          <p:spPr>
            <a:xfrm>
              <a:off x="7599240" y="2696400"/>
              <a:ext cx="3596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15"/>
            <p:cNvSpPr/>
            <p:nvPr/>
          </p:nvSpPr>
          <p:spPr>
            <a:xfrm>
              <a:off x="7823880" y="26964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6"/>
            <p:cNvGrpSpPr/>
            <p:nvPr/>
          </p:nvGrpSpPr>
          <p:grpSpPr>
            <a:xfrm>
              <a:off x="8857800" y="3723480"/>
              <a:ext cx="258480" cy="315720"/>
              <a:chOff x="8857800" y="3723480"/>
              <a:chExt cx="258480" cy="315720"/>
            </a:xfrm>
          </p:grpSpPr>
          <p:pic>
            <p:nvPicPr>
              <p:cNvPr id="461" name="Picture 17" descr="Picture4"/>
              <p:cNvPicPr/>
              <p:nvPr/>
            </p:nvPicPr>
            <p:blipFill>
              <a:blip r:embed="rId9"/>
              <a:stretch/>
            </p:blipFill>
            <p:spPr>
              <a:xfrm rot="5400000">
                <a:off x="882900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AutoShape 18"/>
              <p:cNvSpPr/>
              <p:nvPr/>
            </p:nvSpPr>
            <p:spPr>
              <a:xfrm>
                <a:off x="89024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9"/>
            <p:cNvGrpSpPr/>
            <p:nvPr/>
          </p:nvGrpSpPr>
          <p:grpSpPr>
            <a:xfrm>
              <a:off x="8003520" y="3604680"/>
              <a:ext cx="403560" cy="227160"/>
              <a:chOff x="8003520" y="3604680"/>
              <a:chExt cx="403560" cy="227160"/>
            </a:xfrm>
          </p:grpSpPr>
          <p:pic>
            <p:nvPicPr>
              <p:cNvPr id="464" name="Picture 20" descr="Picture4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003520" y="3604680"/>
                <a:ext cx="3628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AutoShape 21"/>
              <p:cNvSpPr/>
              <p:nvPr/>
            </p:nvSpPr>
            <p:spPr>
              <a:xfrm>
                <a:off x="8229240" y="3644640"/>
                <a:ext cx="17784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20" y="3796"/>
                    </a:lnTo>
                    <a:lnTo>
                      <a:pt x="5000" y="0"/>
                    </a:lnTo>
                    <a:lnTo>
                      <a:pt x="6180" y="3796"/>
                    </a:lnTo>
                    <a:lnTo>
                      <a:pt x="10000" y="3796"/>
                    </a:lnTo>
                    <a:lnTo>
                      <a:pt x="6910" y="6204"/>
                    </a:lnTo>
                    <a:lnTo>
                      <a:pt x="8090" y="10000"/>
                    </a:lnTo>
                    <a:lnTo>
                      <a:pt x="5000" y="7664"/>
                    </a:lnTo>
                    <a:lnTo>
                      <a:pt x="1910" y="10000"/>
                    </a:lnTo>
                    <a:lnTo>
                      <a:pt x="3090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22"/>
            <p:cNvGrpSpPr/>
            <p:nvPr/>
          </p:nvGrpSpPr>
          <p:grpSpPr>
            <a:xfrm>
              <a:off x="9756360" y="3723480"/>
              <a:ext cx="258480" cy="315720"/>
              <a:chOff x="9756360" y="3723480"/>
              <a:chExt cx="258480" cy="315720"/>
            </a:xfrm>
          </p:grpSpPr>
          <p:pic>
            <p:nvPicPr>
              <p:cNvPr id="467" name="Picture 23" descr="Picture4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9727560" y="3751920"/>
                <a:ext cx="31572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AutoShape 24"/>
              <p:cNvSpPr/>
              <p:nvPr/>
            </p:nvSpPr>
            <p:spPr>
              <a:xfrm>
                <a:off x="9800640" y="3726720"/>
                <a:ext cx="17928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5"/>
            <p:cNvGrpSpPr/>
            <p:nvPr/>
          </p:nvGrpSpPr>
          <p:grpSpPr>
            <a:xfrm>
              <a:off x="9621720" y="4473360"/>
              <a:ext cx="258480" cy="354960"/>
              <a:chOff x="9621720" y="4473360"/>
              <a:chExt cx="258480" cy="354960"/>
            </a:xfrm>
          </p:grpSpPr>
          <p:pic>
            <p:nvPicPr>
              <p:cNvPr id="470" name="Picture 26" descr="Picture4"/>
              <p:cNvPicPr/>
              <p:nvPr/>
            </p:nvPicPr>
            <p:blipFill>
              <a:blip r:embed="rId12"/>
              <a:stretch/>
            </p:blipFill>
            <p:spPr>
              <a:xfrm rot="16200000">
                <a:off x="9594360" y="4500360"/>
                <a:ext cx="312840" cy="25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AutoShape 27"/>
              <p:cNvSpPr/>
              <p:nvPr/>
            </p:nvSpPr>
            <p:spPr>
              <a:xfrm>
                <a:off x="9668160" y="4708080"/>
                <a:ext cx="179280" cy="120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86"/>
                    </a:moveTo>
                    <a:lnTo>
                      <a:pt x="3812" y="3786"/>
                    </a:lnTo>
                    <a:lnTo>
                      <a:pt x="5028" y="0"/>
                    </a:lnTo>
                    <a:lnTo>
                      <a:pt x="6188" y="3786"/>
                    </a:lnTo>
                    <a:lnTo>
                      <a:pt x="10000" y="3786"/>
                    </a:lnTo>
                    <a:lnTo>
                      <a:pt x="6906" y="6214"/>
                    </a:lnTo>
                    <a:lnTo>
                      <a:pt x="8066" y="10000"/>
                    </a:lnTo>
                    <a:lnTo>
                      <a:pt x="5028" y="7643"/>
                    </a:lnTo>
                    <a:lnTo>
                      <a:pt x="1934" y="10000"/>
                    </a:lnTo>
                    <a:lnTo>
                      <a:pt x="3094" y="6214"/>
                    </a:lnTo>
                    <a:lnTo>
                      <a:pt x="0" y="37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8"/>
            <p:cNvSpPr/>
            <p:nvPr/>
          </p:nvSpPr>
          <p:spPr>
            <a:xfrm>
              <a:off x="8992440" y="435456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9"/>
            <p:cNvSpPr/>
            <p:nvPr/>
          </p:nvSpPr>
          <p:spPr>
            <a:xfrm>
              <a:off x="7823880" y="45129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0"/>
            <p:cNvSpPr/>
            <p:nvPr/>
          </p:nvSpPr>
          <p:spPr>
            <a:xfrm>
              <a:off x="9396720" y="3683520"/>
              <a:ext cx="26928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1"/>
            <p:cNvSpPr/>
            <p:nvPr/>
          </p:nvSpPr>
          <p:spPr>
            <a:xfrm>
              <a:off x="9577080" y="285480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2"/>
            <p:cNvGrpSpPr/>
            <p:nvPr/>
          </p:nvGrpSpPr>
          <p:grpSpPr>
            <a:xfrm>
              <a:off x="7599240" y="1330200"/>
              <a:ext cx="2741760" cy="3656160"/>
              <a:chOff x="7599240" y="1330200"/>
              <a:chExt cx="2741760" cy="3656160"/>
            </a:xfrm>
          </p:grpSpPr>
          <p:sp>
            <p:nvSpPr>
              <p:cNvPr id="477" name="Rectangle 33"/>
              <p:cNvSpPr/>
              <p:nvPr/>
            </p:nvSpPr>
            <p:spPr>
              <a:xfrm>
                <a:off x="7599240" y="1330200"/>
                <a:ext cx="2741760" cy="365616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4"/>
              <p:cNvSpPr/>
              <p:nvPr/>
            </p:nvSpPr>
            <p:spPr>
              <a:xfrm>
                <a:off x="7599240" y="2396160"/>
                <a:ext cx="2741760" cy="25898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AutoShape 35"/>
            <p:cNvSpPr/>
            <p:nvPr/>
          </p:nvSpPr>
          <p:spPr>
            <a:xfrm>
              <a:off x="7823160" y="33040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6"/>
            <p:cNvGrpSpPr/>
            <p:nvPr/>
          </p:nvGrpSpPr>
          <p:grpSpPr>
            <a:xfrm>
              <a:off x="7958880" y="2696040"/>
              <a:ext cx="403560" cy="227160"/>
              <a:chOff x="7958880" y="2696040"/>
              <a:chExt cx="403560" cy="227160"/>
            </a:xfrm>
          </p:grpSpPr>
          <p:pic>
            <p:nvPicPr>
              <p:cNvPr id="481" name="Picture 37" descr="Picture4"/>
              <p:cNvPicPr/>
              <p:nvPr/>
            </p:nvPicPr>
            <p:blipFill>
              <a:blip r:embed="rId13"/>
              <a:stretch/>
            </p:blipFill>
            <p:spPr>
              <a:xfrm rot="10800000">
                <a:off x="7958880" y="269604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AutoShape 38"/>
              <p:cNvSpPr/>
              <p:nvPr/>
            </p:nvSpPr>
            <p:spPr>
              <a:xfrm>
                <a:off x="8183520" y="273600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9"/>
            <p:cNvGrpSpPr/>
            <p:nvPr/>
          </p:nvGrpSpPr>
          <p:grpSpPr>
            <a:xfrm>
              <a:off x="7958880" y="4512600"/>
              <a:ext cx="403560" cy="227160"/>
              <a:chOff x="7958880" y="4512600"/>
              <a:chExt cx="403560" cy="227160"/>
            </a:xfrm>
          </p:grpSpPr>
          <p:pic>
            <p:nvPicPr>
              <p:cNvPr id="484" name="Picture 40" descr="Picture4"/>
              <p:cNvPicPr/>
              <p:nvPr/>
            </p:nvPicPr>
            <p:blipFill>
              <a:blip r:embed="rId14"/>
              <a:stretch/>
            </p:blipFill>
            <p:spPr>
              <a:xfrm rot="10800000">
                <a:off x="7958880" y="4512600"/>
                <a:ext cx="35928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AutoShape 41"/>
              <p:cNvSpPr/>
              <p:nvPr/>
            </p:nvSpPr>
            <p:spPr>
              <a:xfrm>
                <a:off x="8183520" y="4552560"/>
                <a:ext cx="178920" cy="1191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6"/>
                    </a:moveTo>
                    <a:lnTo>
                      <a:pt x="3812" y="3796"/>
                    </a:lnTo>
                    <a:lnTo>
                      <a:pt x="5028" y="0"/>
                    </a:lnTo>
                    <a:lnTo>
                      <a:pt x="6188" y="3796"/>
                    </a:lnTo>
                    <a:lnTo>
                      <a:pt x="10000" y="3796"/>
                    </a:lnTo>
                    <a:lnTo>
                      <a:pt x="6906" y="6204"/>
                    </a:lnTo>
                    <a:lnTo>
                      <a:pt x="8066" y="10000"/>
                    </a:lnTo>
                    <a:lnTo>
                      <a:pt x="5028" y="7664"/>
                    </a:lnTo>
                    <a:lnTo>
                      <a:pt x="1934" y="10000"/>
                    </a:lnTo>
                    <a:lnTo>
                      <a:pt x="3094" y="6204"/>
                    </a:lnTo>
                    <a:lnTo>
                      <a:pt x="0" y="379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AutoShape 35"/>
            <p:cNvSpPr/>
            <p:nvPr/>
          </p:nvSpPr>
          <p:spPr>
            <a:xfrm>
              <a:off x="8843760" y="327168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5"/>
            <p:cNvSpPr/>
            <p:nvPr/>
          </p:nvSpPr>
          <p:spPr>
            <a:xfrm>
              <a:off x="7823160" y="425016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5"/>
            <p:cNvSpPr/>
            <p:nvPr/>
          </p:nvSpPr>
          <p:spPr>
            <a:xfrm>
              <a:off x="8546400" y="409104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5"/>
            <p:cNvSpPr/>
            <p:nvPr/>
          </p:nvSpPr>
          <p:spPr>
            <a:xfrm>
              <a:off x="8493120" y="3069720"/>
              <a:ext cx="269640" cy="197280"/>
            </a:xfrm>
            <a:prstGeom prst="diamond">
              <a:avLst/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2"/>
          <p:cNvSpPr/>
          <p:nvPr/>
        </p:nvSpPr>
        <p:spPr>
          <a:xfrm>
            <a:off x="7709760" y="765000"/>
            <a:ext cx="22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3"/>
          <p:cNvSpPr/>
          <p:nvPr/>
        </p:nvSpPr>
        <p:spPr>
          <a:xfrm>
            <a:off x="1942200" y="692280"/>
            <a:ext cx="38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↔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88"/>
          <p:cNvGrpSpPr/>
          <p:nvPr/>
        </p:nvGrpSpPr>
        <p:grpSpPr>
          <a:xfrm>
            <a:off x="2082960" y="733320"/>
            <a:ext cx="7727760" cy="4335480"/>
            <a:chOff x="2082960" y="733320"/>
            <a:chExt cx="7727760" cy="4335480"/>
          </a:xfrm>
        </p:grpSpPr>
        <p:pic>
          <p:nvPicPr>
            <p:cNvPr id="493" name="Picture 46" descr="Picture4"/>
            <p:cNvPicPr/>
            <p:nvPr/>
          </p:nvPicPr>
          <p:blipFill>
            <a:blip r:embed="rId15"/>
            <a:stretch/>
          </p:blipFill>
          <p:spPr>
            <a:xfrm>
              <a:off x="2270160" y="2917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7" descr="Picture4"/>
            <p:cNvPicPr/>
            <p:nvPr/>
          </p:nvPicPr>
          <p:blipFill>
            <a:blip r:embed="rId16"/>
            <a:stretch/>
          </p:blipFill>
          <p:spPr>
            <a:xfrm>
              <a:off x="2270160" y="44920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8" descr="Picture4"/>
            <p:cNvPicPr/>
            <p:nvPr/>
          </p:nvPicPr>
          <p:blipFill>
            <a:blip r:embed="rId17"/>
            <a:stretch/>
          </p:blipFill>
          <p:spPr>
            <a:xfrm>
              <a:off x="2270160" y="32684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9" descr="Picture4"/>
            <p:cNvPicPr/>
            <p:nvPr/>
          </p:nvPicPr>
          <p:blipFill>
            <a:blip r:embed="rId18"/>
            <a:stretch/>
          </p:blipFill>
          <p:spPr>
            <a:xfrm>
              <a:off x="2270160" y="358416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0" descr="Picture4"/>
            <p:cNvPicPr/>
            <p:nvPr/>
          </p:nvPicPr>
          <p:blipFill>
            <a:blip r:embed="rId19"/>
            <a:stretch/>
          </p:blipFill>
          <p:spPr>
            <a:xfrm>
              <a:off x="2270160" y="386028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52" descr="Picture4"/>
            <p:cNvPicPr/>
            <p:nvPr/>
          </p:nvPicPr>
          <p:blipFill>
            <a:blip r:embed="rId20"/>
            <a:stretch/>
          </p:blipFill>
          <p:spPr>
            <a:xfrm>
              <a:off x="2270160" y="421524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58" descr="Picture4"/>
            <p:cNvPicPr/>
            <p:nvPr/>
          </p:nvPicPr>
          <p:blipFill>
            <a:blip r:embed="rId21"/>
            <a:stretch/>
          </p:blipFill>
          <p:spPr>
            <a:xfrm>
              <a:off x="2270160" y="2675520"/>
              <a:ext cx="359640" cy="22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Group 87"/>
            <p:cNvGrpSpPr/>
            <p:nvPr/>
          </p:nvGrpSpPr>
          <p:grpSpPr>
            <a:xfrm>
              <a:off x="2257200" y="1413000"/>
              <a:ext cx="2754360" cy="3655800"/>
              <a:chOff x="2257200" y="1413000"/>
              <a:chExt cx="2754360" cy="3655800"/>
            </a:xfrm>
          </p:grpSpPr>
          <p:sp>
            <p:nvSpPr>
              <p:cNvPr id="501" name="Rectangle 60"/>
              <p:cNvSpPr/>
              <p:nvPr/>
            </p:nvSpPr>
            <p:spPr>
              <a:xfrm>
                <a:off x="2269800" y="1413000"/>
                <a:ext cx="2741760" cy="3655800"/>
              </a:xfrm>
              <a:prstGeom prst="rect">
                <a:avLst/>
              </a:pr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61"/>
              <p:cNvSpPr/>
              <p:nvPr/>
            </p:nvSpPr>
            <p:spPr>
              <a:xfrm>
                <a:off x="2257200" y="2390760"/>
                <a:ext cx="2754360" cy="2678040"/>
              </a:xfrm>
              <a:prstGeom prst="rect">
                <a:avLst/>
              </a:prstGeom>
              <a:solidFill>
                <a:srgbClr val="727ca3">
                  <a:alpha val="9000"/>
                </a:srgbClr>
              </a:solidFill>
              <a:ln w="936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86"/>
            <p:cNvGrpSpPr/>
            <p:nvPr/>
          </p:nvGrpSpPr>
          <p:grpSpPr>
            <a:xfrm>
              <a:off x="2082960" y="733320"/>
              <a:ext cx="7727760" cy="4035240"/>
              <a:chOff x="2082960" y="733320"/>
              <a:chExt cx="7727760" cy="4035240"/>
            </a:xfrm>
          </p:grpSpPr>
          <p:sp>
            <p:nvSpPr>
              <p:cNvPr id="504" name="Line 45"/>
              <p:cNvSpPr/>
              <p:nvPr/>
            </p:nvSpPr>
            <p:spPr>
              <a:xfrm>
                <a:off x="2584080" y="24789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Picture 51" descr="Picture4"/>
              <p:cNvPicPr/>
              <p:nvPr/>
            </p:nvPicPr>
            <p:blipFill>
              <a:blip r:embed="rId22"/>
              <a:stretch/>
            </p:blipFill>
            <p:spPr>
              <a:xfrm>
                <a:off x="2539440" y="275472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53" descr="Picture4"/>
              <p:cNvPicPr/>
              <p:nvPr/>
            </p:nvPicPr>
            <p:blipFill>
              <a:blip r:embed="rId23"/>
              <a:stretch/>
            </p:blipFill>
            <p:spPr>
              <a:xfrm>
                <a:off x="3213360" y="35049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7" name="Group 54"/>
              <p:cNvGrpSpPr/>
              <p:nvPr/>
            </p:nvGrpSpPr>
            <p:grpSpPr>
              <a:xfrm>
                <a:off x="2764440" y="2754720"/>
                <a:ext cx="269280" cy="197280"/>
                <a:chOff x="2764440" y="2754720"/>
                <a:chExt cx="269280" cy="197280"/>
              </a:xfrm>
            </p:grpSpPr>
            <p:sp>
              <p:nvSpPr>
                <p:cNvPr id="508" name="AutoShape 55"/>
                <p:cNvSpPr/>
                <p:nvPr/>
              </p:nvSpPr>
              <p:spPr>
                <a:xfrm>
                  <a:off x="276444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56"/>
                <p:cNvSpPr/>
                <p:nvPr/>
              </p:nvSpPr>
              <p:spPr>
                <a:xfrm>
                  <a:off x="2808000" y="2797920"/>
                  <a:ext cx="17928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12" y="3817"/>
                      </a:lnTo>
                      <a:lnTo>
                        <a:pt x="5028" y="0"/>
                      </a:lnTo>
                      <a:lnTo>
                        <a:pt x="6188" y="3817"/>
                      </a:lnTo>
                      <a:lnTo>
                        <a:pt x="10000" y="3817"/>
                      </a:lnTo>
                      <a:lnTo>
                        <a:pt x="6906" y="6183"/>
                      </a:lnTo>
                      <a:lnTo>
                        <a:pt x="8066" y="10000"/>
                      </a:lnTo>
                      <a:lnTo>
                        <a:pt x="5028" y="7634"/>
                      </a:lnTo>
                      <a:lnTo>
                        <a:pt x="1934" y="10000"/>
                      </a:lnTo>
                      <a:lnTo>
                        <a:pt x="3094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0" name="Picture 57" descr="Picture4"/>
              <p:cNvPicPr/>
              <p:nvPr/>
            </p:nvPicPr>
            <p:blipFill>
              <a:blip r:embed="rId24"/>
              <a:stretch/>
            </p:blipFill>
            <p:spPr>
              <a:xfrm>
                <a:off x="3798000" y="271584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AutoShape 62"/>
              <p:cNvSpPr/>
              <p:nvPr/>
            </p:nvSpPr>
            <p:spPr>
              <a:xfrm>
                <a:off x="4517280" y="374184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Group 63"/>
              <p:cNvGrpSpPr/>
              <p:nvPr/>
            </p:nvGrpSpPr>
            <p:grpSpPr>
              <a:xfrm>
                <a:off x="2082960" y="733320"/>
                <a:ext cx="7727760" cy="2218680"/>
                <a:chOff x="2082960" y="733320"/>
                <a:chExt cx="7727760" cy="2218680"/>
              </a:xfrm>
            </p:grpSpPr>
            <p:sp>
              <p:nvSpPr>
                <p:cNvPr id="513" name="AutoShape 64"/>
                <p:cNvSpPr/>
                <p:nvPr/>
              </p:nvSpPr>
              <p:spPr>
                <a:xfrm>
                  <a:off x="3438360" y="275472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65"/>
                <p:cNvSpPr/>
                <p:nvPr/>
              </p:nvSpPr>
              <p:spPr>
                <a:xfrm>
                  <a:off x="3483000" y="2798280"/>
                  <a:ext cx="176040" cy="1137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7"/>
                      </a:moveTo>
                      <a:lnTo>
                        <a:pt x="3820" y="3817"/>
                      </a:lnTo>
                      <a:lnTo>
                        <a:pt x="5000" y="0"/>
                      </a:lnTo>
                      <a:lnTo>
                        <a:pt x="6180" y="3817"/>
                      </a:lnTo>
                      <a:lnTo>
                        <a:pt x="10000" y="3817"/>
                      </a:lnTo>
                      <a:lnTo>
                        <a:pt x="6910" y="6183"/>
                      </a:lnTo>
                      <a:lnTo>
                        <a:pt x="8090" y="10000"/>
                      </a:lnTo>
                      <a:lnTo>
                        <a:pt x="5000" y="7634"/>
                      </a:lnTo>
                      <a:lnTo>
                        <a:pt x="1910" y="10000"/>
                      </a:lnTo>
                      <a:lnTo>
                        <a:pt x="3090" y="6183"/>
                      </a:lnTo>
                      <a:lnTo>
                        <a:pt x="0" y="381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65"/>
                <p:cNvSpPr/>
                <p:nvPr/>
              </p:nvSpPr>
              <p:spPr>
                <a:xfrm>
                  <a:off x="2082960" y="733320"/>
                  <a:ext cx="23184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65"/>
                <p:cNvSpPr/>
                <p:nvPr/>
              </p:nvSpPr>
              <p:spPr>
                <a:xfrm>
                  <a:off x="4073760" y="790560"/>
                  <a:ext cx="231480" cy="1486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01"/>
                      </a:moveTo>
                      <a:lnTo>
                        <a:pt x="3803" y="3801"/>
                      </a:lnTo>
                      <a:lnTo>
                        <a:pt x="5000" y="0"/>
                      </a:lnTo>
                      <a:lnTo>
                        <a:pt x="6197" y="3801"/>
                      </a:lnTo>
                      <a:lnTo>
                        <a:pt x="10000" y="3801"/>
                      </a:lnTo>
                      <a:lnTo>
                        <a:pt x="6923" y="6199"/>
                      </a:lnTo>
                      <a:lnTo>
                        <a:pt x="8077" y="10000"/>
                      </a:lnTo>
                      <a:lnTo>
                        <a:pt x="5000" y="7661"/>
                      </a:lnTo>
                      <a:lnTo>
                        <a:pt x="1923" y="10000"/>
                      </a:lnTo>
                      <a:lnTo>
                        <a:pt x="3077" y="6199"/>
                      </a:lnTo>
                      <a:lnTo>
                        <a:pt x="0" y="380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65"/>
                <p:cNvSpPr/>
                <p:nvPr/>
              </p:nvSpPr>
              <p:spPr>
                <a:xfrm>
                  <a:off x="8445240" y="83736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65"/>
                <p:cNvSpPr/>
                <p:nvPr/>
              </p:nvSpPr>
              <p:spPr>
                <a:xfrm>
                  <a:off x="9578880" y="828000"/>
                  <a:ext cx="231840" cy="15048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15"/>
                      </a:moveTo>
                      <a:lnTo>
                        <a:pt x="3803" y="3815"/>
                      </a:lnTo>
                      <a:lnTo>
                        <a:pt x="5000" y="0"/>
                      </a:lnTo>
                      <a:lnTo>
                        <a:pt x="6197" y="3815"/>
                      </a:lnTo>
                      <a:lnTo>
                        <a:pt x="10000" y="3815"/>
                      </a:lnTo>
                      <a:lnTo>
                        <a:pt x="6923" y="6185"/>
                      </a:lnTo>
                      <a:lnTo>
                        <a:pt x="8077" y="10000"/>
                      </a:lnTo>
                      <a:lnTo>
                        <a:pt x="5000" y="7630"/>
                      </a:lnTo>
                      <a:lnTo>
                        <a:pt x="1923" y="10000"/>
                      </a:lnTo>
                      <a:lnTo>
                        <a:pt x="3077" y="6185"/>
                      </a:lnTo>
                      <a:lnTo>
                        <a:pt x="0" y="38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66"/>
              <p:cNvGrpSpPr/>
              <p:nvPr/>
            </p:nvGrpSpPr>
            <p:grpSpPr>
              <a:xfrm>
                <a:off x="3798000" y="3939480"/>
                <a:ext cx="269280" cy="197280"/>
                <a:chOff x="3798000" y="3939480"/>
                <a:chExt cx="269280" cy="197280"/>
              </a:xfrm>
            </p:grpSpPr>
            <p:sp>
              <p:nvSpPr>
                <p:cNvPr id="520" name="AutoShape 67"/>
                <p:cNvSpPr/>
                <p:nvPr/>
              </p:nvSpPr>
              <p:spPr>
                <a:xfrm>
                  <a:off x="3798000" y="393948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AutoShape 68"/>
                <p:cNvSpPr/>
                <p:nvPr/>
              </p:nvSpPr>
              <p:spPr>
                <a:xfrm>
                  <a:off x="3841560" y="3980880"/>
                  <a:ext cx="17928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12" y="3835"/>
                      </a:lnTo>
                      <a:lnTo>
                        <a:pt x="5028" y="0"/>
                      </a:lnTo>
                      <a:lnTo>
                        <a:pt x="6188" y="3835"/>
                      </a:lnTo>
                      <a:lnTo>
                        <a:pt x="10000" y="3835"/>
                      </a:lnTo>
                      <a:lnTo>
                        <a:pt x="6906" y="6165"/>
                      </a:lnTo>
                      <a:lnTo>
                        <a:pt x="8066" y="10000"/>
                      </a:lnTo>
                      <a:lnTo>
                        <a:pt x="5028" y="7669"/>
                      </a:lnTo>
                      <a:lnTo>
                        <a:pt x="1934" y="10000"/>
                      </a:lnTo>
                      <a:lnTo>
                        <a:pt x="3094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69"/>
              <p:cNvGrpSpPr/>
              <p:nvPr/>
            </p:nvGrpSpPr>
            <p:grpSpPr>
              <a:xfrm>
                <a:off x="4382640" y="3031560"/>
                <a:ext cx="269280" cy="197280"/>
                <a:chOff x="4382640" y="3031560"/>
                <a:chExt cx="269280" cy="197280"/>
              </a:xfrm>
            </p:grpSpPr>
            <p:sp>
              <p:nvSpPr>
                <p:cNvPr id="523" name="AutoShape 70"/>
                <p:cNvSpPr/>
                <p:nvPr/>
              </p:nvSpPr>
              <p:spPr>
                <a:xfrm>
                  <a:off x="4382640" y="303156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AutoShape 71"/>
                <p:cNvSpPr/>
                <p:nvPr/>
              </p:nvSpPr>
              <p:spPr>
                <a:xfrm>
                  <a:off x="4426920" y="3071160"/>
                  <a:ext cx="179280" cy="1173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52"/>
                      </a:moveTo>
                      <a:lnTo>
                        <a:pt x="3812" y="3852"/>
                      </a:lnTo>
                      <a:lnTo>
                        <a:pt x="5028" y="0"/>
                      </a:lnTo>
                      <a:lnTo>
                        <a:pt x="6188" y="3852"/>
                      </a:lnTo>
                      <a:lnTo>
                        <a:pt x="10000" y="3852"/>
                      </a:lnTo>
                      <a:lnTo>
                        <a:pt x="6906" y="6148"/>
                      </a:lnTo>
                      <a:lnTo>
                        <a:pt x="8066" y="10000"/>
                      </a:lnTo>
                      <a:lnTo>
                        <a:pt x="5028" y="7630"/>
                      </a:lnTo>
                      <a:lnTo>
                        <a:pt x="1934" y="10000"/>
                      </a:lnTo>
                      <a:lnTo>
                        <a:pt x="3094" y="6148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5" name="Picture 72" descr="Picture4"/>
              <p:cNvPicPr/>
              <p:nvPr/>
            </p:nvPicPr>
            <p:blipFill>
              <a:blip r:embed="rId25"/>
              <a:stretch/>
            </p:blipFill>
            <p:spPr>
              <a:xfrm>
                <a:off x="334800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73" descr="Picture4"/>
              <p:cNvPicPr/>
              <p:nvPr/>
            </p:nvPicPr>
            <p:blipFill>
              <a:blip r:embed="rId26"/>
              <a:stretch/>
            </p:blipFill>
            <p:spPr>
              <a:xfrm>
                <a:off x="3932640" y="346572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74" descr="Picture4"/>
              <p:cNvPicPr/>
              <p:nvPr/>
            </p:nvPicPr>
            <p:blipFill>
              <a:blip r:embed="rId27"/>
              <a:stretch/>
            </p:blipFill>
            <p:spPr>
              <a:xfrm>
                <a:off x="4112280" y="437364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75" descr="Picture4"/>
              <p:cNvPicPr/>
              <p:nvPr/>
            </p:nvPicPr>
            <p:blipFill>
              <a:blip r:embed="rId28"/>
              <a:stretch/>
            </p:blipFill>
            <p:spPr>
              <a:xfrm>
                <a:off x="4292640" y="3346560"/>
                <a:ext cx="258480" cy="31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Picture 76" descr="Picture4"/>
              <p:cNvPicPr/>
              <p:nvPr/>
            </p:nvPicPr>
            <p:blipFill>
              <a:blip r:embed="rId29"/>
              <a:stretch/>
            </p:blipFill>
            <p:spPr>
              <a:xfrm>
                <a:off x="2494080" y="425520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0" name="Group 77"/>
              <p:cNvGrpSpPr/>
              <p:nvPr/>
            </p:nvGrpSpPr>
            <p:grpSpPr>
              <a:xfrm>
                <a:off x="2719080" y="4255200"/>
                <a:ext cx="269280" cy="197280"/>
                <a:chOff x="2719080" y="4255200"/>
                <a:chExt cx="269280" cy="197280"/>
              </a:xfrm>
            </p:grpSpPr>
            <p:sp>
              <p:nvSpPr>
                <p:cNvPr id="531" name="AutoShape 78"/>
                <p:cNvSpPr/>
                <p:nvPr/>
              </p:nvSpPr>
              <p:spPr>
                <a:xfrm>
                  <a:off x="2719080" y="4255200"/>
                  <a:ext cx="269280" cy="197280"/>
                </a:xfrm>
                <a:prstGeom prst="diamond">
                  <a:avLst/>
                </a:prstGeom>
                <a:solidFill>
                  <a:srgbClr val="727ca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79"/>
                <p:cNvSpPr/>
                <p:nvPr/>
              </p:nvSpPr>
              <p:spPr>
                <a:xfrm>
                  <a:off x="2763360" y="4296600"/>
                  <a:ext cx="176040" cy="11556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3835"/>
                      </a:moveTo>
                      <a:lnTo>
                        <a:pt x="3820" y="3835"/>
                      </a:lnTo>
                      <a:lnTo>
                        <a:pt x="5000" y="0"/>
                      </a:lnTo>
                      <a:lnTo>
                        <a:pt x="6180" y="3835"/>
                      </a:lnTo>
                      <a:lnTo>
                        <a:pt x="10000" y="3835"/>
                      </a:lnTo>
                      <a:lnTo>
                        <a:pt x="6910" y="6165"/>
                      </a:lnTo>
                      <a:lnTo>
                        <a:pt x="8090" y="10000"/>
                      </a:lnTo>
                      <a:lnTo>
                        <a:pt x="5000" y="7669"/>
                      </a:lnTo>
                      <a:lnTo>
                        <a:pt x="1910" y="10000"/>
                      </a:lnTo>
                      <a:lnTo>
                        <a:pt x="3090" y="6165"/>
                      </a:lnTo>
                      <a:lnTo>
                        <a:pt x="0" y="383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AutoShape 80"/>
              <p:cNvSpPr/>
              <p:nvPr/>
            </p:nvSpPr>
            <p:spPr>
              <a:xfrm>
                <a:off x="3438360" y="4571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81"/>
              <p:cNvSpPr/>
              <p:nvPr/>
            </p:nvSpPr>
            <p:spPr>
              <a:xfrm>
                <a:off x="3393720" y="386028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82"/>
              <p:cNvSpPr/>
              <p:nvPr/>
            </p:nvSpPr>
            <p:spPr>
              <a:xfrm>
                <a:off x="2823480" y="33768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Picture 51" descr="Picture4"/>
              <p:cNvPicPr/>
              <p:nvPr/>
            </p:nvPicPr>
            <p:blipFill>
              <a:blip r:embed="rId30"/>
              <a:stretch/>
            </p:blipFill>
            <p:spPr>
              <a:xfrm>
                <a:off x="2549160" y="3364560"/>
                <a:ext cx="3596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AutoShape 82"/>
              <p:cNvSpPr/>
              <p:nvPr/>
            </p:nvSpPr>
            <p:spPr>
              <a:xfrm>
                <a:off x="3442680" y="3186000"/>
                <a:ext cx="269280" cy="197280"/>
              </a:xfrm>
              <a:prstGeom prst="diamond">
                <a:avLst/>
              </a:prstGeom>
              <a:solidFill>
                <a:srgbClr val="727c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ypical standard curve for the T3 I-125 RIA kit"/>
          <p:cNvPicPr/>
          <p:nvPr/>
        </p:nvPicPr>
        <p:blipFill>
          <a:blip r:embed="rId1"/>
          <a:stretch/>
        </p:blipFill>
        <p:spPr>
          <a:xfrm>
            <a:off x="2155680" y="230040"/>
            <a:ext cx="3816360" cy="28418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3218040" y="3071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279520" y="117648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Typical standard curve for the Luteinizing Hormone (hLH) I-125 IRMA kit"/>
          <p:cNvPicPr/>
          <p:nvPr/>
        </p:nvPicPr>
        <p:blipFill>
          <a:blip r:embed="rId2"/>
          <a:stretch/>
        </p:blipFill>
        <p:spPr>
          <a:xfrm>
            <a:off x="6764400" y="301680"/>
            <a:ext cx="2808360" cy="26845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7307280" y="2990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96"/>
          <p:cNvGrpSpPr/>
          <p:nvPr/>
        </p:nvGrpSpPr>
        <p:grpSpPr>
          <a:xfrm>
            <a:off x="7214400" y="3556080"/>
            <a:ext cx="2266920" cy="579600"/>
            <a:chOff x="7214400" y="3556080"/>
            <a:chExt cx="2266920" cy="579600"/>
          </a:xfrm>
        </p:grpSpPr>
        <p:sp>
          <p:nvSpPr>
            <p:cNvPr id="545" name="AutoShape 65"/>
            <p:cNvSpPr/>
            <p:nvPr/>
          </p:nvSpPr>
          <p:spPr>
            <a:xfrm>
              <a:off x="7950240" y="364788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65"/>
            <p:cNvSpPr/>
            <p:nvPr/>
          </p:nvSpPr>
          <p:spPr>
            <a:xfrm>
              <a:off x="9083880" y="3638520"/>
              <a:ext cx="231480" cy="150840"/>
            </a:xfrm>
            <a:custGeom>
              <a:avLst/>
              <a:gdLst/>
              <a:ahLst/>
              <a:rect l="l" t="t" r="r" b="b"/>
              <a:pathLst>
                <a:path w="231775" h="150813">
                  <a:moveTo>
                    <a:pt x="0" y="57605"/>
                  </a:moveTo>
                  <a:lnTo>
                    <a:pt x="88531" y="57606"/>
                  </a:lnTo>
                  <a:lnTo>
                    <a:pt x="115888" y="0"/>
                  </a:lnTo>
                  <a:lnTo>
                    <a:pt x="143244" y="57606"/>
                  </a:lnTo>
                  <a:lnTo>
                    <a:pt x="231775" y="57605"/>
                  </a:lnTo>
                  <a:lnTo>
                    <a:pt x="160152" y="93207"/>
                  </a:lnTo>
                  <a:lnTo>
                    <a:pt x="187510" y="150813"/>
                  </a:lnTo>
                  <a:lnTo>
                    <a:pt x="115888" y="115210"/>
                  </a:lnTo>
                  <a:lnTo>
                    <a:pt x="44265" y="150813"/>
                  </a:lnTo>
                  <a:lnTo>
                    <a:pt x="71623" y="93207"/>
                  </a:lnTo>
                  <a:lnTo>
                    <a:pt x="0" y="5760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2"/>
            <p:cNvSpPr/>
            <p:nvPr/>
          </p:nvSpPr>
          <p:spPr>
            <a:xfrm>
              <a:off x="7214400" y="3556080"/>
              <a:ext cx="226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95"/>
          <p:cNvGrpSpPr/>
          <p:nvPr/>
        </p:nvGrpSpPr>
        <p:grpSpPr>
          <a:xfrm>
            <a:off x="2104200" y="3492360"/>
            <a:ext cx="3824280" cy="579600"/>
            <a:chOff x="2104200" y="3492360"/>
            <a:chExt cx="3824280" cy="579600"/>
          </a:xfrm>
        </p:grpSpPr>
        <p:sp>
          <p:nvSpPr>
            <p:cNvPr id="549" name="AutoShape 65"/>
            <p:cNvSpPr/>
            <p:nvPr/>
          </p:nvSpPr>
          <p:spPr>
            <a:xfrm>
              <a:off x="2225520" y="36385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65"/>
            <p:cNvSpPr/>
            <p:nvPr/>
          </p:nvSpPr>
          <p:spPr>
            <a:xfrm>
              <a:off x="4235400" y="3609720"/>
              <a:ext cx="231480" cy="149400"/>
            </a:xfrm>
            <a:custGeom>
              <a:avLst/>
              <a:gdLst/>
              <a:ahLst/>
              <a:rect l="l" t="t" r="r" b="b"/>
              <a:pathLst>
                <a:path w="231775" h="149225">
                  <a:moveTo>
                    <a:pt x="0" y="56999"/>
                  </a:moveTo>
                  <a:lnTo>
                    <a:pt x="88531" y="56999"/>
                  </a:lnTo>
                  <a:lnTo>
                    <a:pt x="115888" y="0"/>
                  </a:lnTo>
                  <a:lnTo>
                    <a:pt x="143244" y="56999"/>
                  </a:lnTo>
                  <a:lnTo>
                    <a:pt x="231775" y="56999"/>
                  </a:lnTo>
                  <a:lnTo>
                    <a:pt x="160152" y="92226"/>
                  </a:lnTo>
                  <a:lnTo>
                    <a:pt x="187510" y="149225"/>
                  </a:lnTo>
                  <a:lnTo>
                    <a:pt x="115888" y="113997"/>
                  </a:lnTo>
                  <a:lnTo>
                    <a:pt x="44265" y="149225"/>
                  </a:lnTo>
                  <a:lnTo>
                    <a:pt x="71623" y="92226"/>
                  </a:lnTo>
                  <a:lnTo>
                    <a:pt x="0" y="5699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3"/>
            <p:cNvSpPr/>
            <p:nvPr/>
          </p:nvSpPr>
          <p:spPr>
            <a:xfrm>
              <a:off x="2104200" y="3492360"/>
              <a:ext cx="38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↔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197"/>
          <p:cNvSpPr/>
          <p:nvPr/>
        </p:nvSpPr>
        <p:spPr>
          <a:xfrm>
            <a:off x="5216760" y="4149720"/>
            <a:ext cx="250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нд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2332080" y="2050920"/>
            <a:ext cx="154080" cy="66996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876320" y="166680"/>
            <a:ext cx="830592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"/>
          <p:cNvSpPr/>
          <p:nvPr/>
        </p:nvSpPr>
        <p:spPr>
          <a:xfrm>
            <a:off x="3146760" y="32688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Гам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738440" y="14241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797040" y="1101600"/>
            <a:ext cx="10023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радиоактивност у узорцима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ој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ама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тона који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митују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ма (јамасти) бројач је сцинтилациони бројач који садржи удубљење «јаму» у које се постављају епрувете са узорцима за ин витро мерења. Основна предност овакве конструкције је повећана геометријска ефикасност бројања, зато што кристал окружује већи део 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9"/>
          <p:cNvGraphicFramePr/>
          <p:nvPr/>
        </p:nvGraphicFramePr>
        <p:xfrm>
          <a:off x="1820880" y="4390920"/>
          <a:ext cx="267480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4390920"/>
                    <a:ext cx="26748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0" name="Picture 7" descr="Well Type Detector"/>
          <p:cNvPicPr/>
          <p:nvPr/>
        </p:nvPicPr>
        <p:blipFill>
          <a:blip r:embed="rId3"/>
          <a:stretch/>
        </p:blipFill>
        <p:spPr>
          <a:xfrm>
            <a:off x="4727520" y="4191120"/>
            <a:ext cx="2044800" cy="2044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http://www.bcm.edu/physio/lab_pages/pedersen/equipment/cobra.jpg"/>
          <p:cNvPicPr/>
          <p:nvPr/>
        </p:nvPicPr>
        <p:blipFill>
          <a:blip r:embed="rId4"/>
          <a:stretch/>
        </p:blipFill>
        <p:spPr>
          <a:xfrm>
            <a:off x="7156440" y="3381480"/>
            <a:ext cx="2540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обичајени делови оптичких инструмената који се користе у УВ, видљивом и ИР региону су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Calibri"/>
                <a:ea typeface="Calibri"/>
              </a:rPr>
              <a:t>1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билан извор зрачењ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 монохроматор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) носач (држач) узорка (један или више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) детектор ЕМ зрачења (у већини случајева енергија ЕМ зрачења се претвара у електричну енергију) 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) део за обраду и очитавање сигнала (углавном је то рачунар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481-0D16-438B-8EE8-D524051DD541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874600" y="33804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ЕТ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БРОЈ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58960" y="1606680"/>
            <a:ext cx="900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румент који мери радиоактивност у узорцима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чим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р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ета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митуј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з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8"/>
          <p:cNvGraphicFramePr/>
          <p:nvPr/>
        </p:nvGraphicFramePr>
        <p:xfrm>
          <a:off x="2022480" y="4064040"/>
          <a:ext cx="838836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4064040"/>
                    <a:ext cx="838836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135600" y="3268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ФЛУОР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658800" y="1295280"/>
            <a:ext cx="1034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 који мери количину светлости која настаје ексцит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ч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ређ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 светл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ик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ексц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еном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луоресц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"/>
          <p:cNvGrpSpPr/>
          <p:nvPr/>
        </p:nvGrpSpPr>
        <p:grpSpPr>
          <a:xfrm>
            <a:off x="1771560" y="3720960"/>
            <a:ext cx="4287600" cy="2955960"/>
            <a:chOff x="1771560" y="3720960"/>
            <a:chExt cx="4287600" cy="2955960"/>
          </a:xfrm>
        </p:grpSpPr>
        <p:grpSp>
          <p:nvGrpSpPr>
            <p:cNvPr id="569" name="Group 6"/>
            <p:cNvGrpSpPr/>
            <p:nvPr/>
          </p:nvGrpSpPr>
          <p:grpSpPr>
            <a:xfrm>
              <a:off x="1771560" y="3767400"/>
              <a:ext cx="3935160" cy="2772360"/>
              <a:chOff x="1771560" y="3767400"/>
              <a:chExt cx="3935160" cy="2772360"/>
            </a:xfrm>
          </p:grpSpPr>
          <p:grpSp>
            <p:nvGrpSpPr>
              <p:cNvPr id="570" name="Group 7"/>
              <p:cNvGrpSpPr/>
              <p:nvPr/>
            </p:nvGrpSpPr>
            <p:grpSpPr>
              <a:xfrm>
                <a:off x="1771560" y="3767400"/>
                <a:ext cx="3935160" cy="2772360"/>
                <a:chOff x="1771560" y="3767400"/>
                <a:chExt cx="3935160" cy="2772360"/>
              </a:xfrm>
            </p:grpSpPr>
            <p:grpSp>
              <p:nvGrpSpPr>
                <p:cNvPr id="571" name="Group 8"/>
                <p:cNvGrpSpPr/>
                <p:nvPr/>
              </p:nvGrpSpPr>
              <p:grpSpPr>
                <a:xfrm>
                  <a:off x="1771560" y="3767400"/>
                  <a:ext cx="3935160" cy="2772360"/>
                  <a:chOff x="1771560" y="3767400"/>
                  <a:chExt cx="3935160" cy="2772360"/>
                </a:xfrm>
              </p:grpSpPr>
              <p:sp>
                <p:nvSpPr>
                  <p:cNvPr id="572" name="Rectangle 9"/>
                  <p:cNvSpPr/>
                  <p:nvPr/>
                </p:nvSpPr>
                <p:spPr>
                  <a:xfrm>
                    <a:off x="1771560" y="3767400"/>
                    <a:ext cx="3935160" cy="2772360"/>
                  </a:xfrm>
                  <a:prstGeom prst="rect">
                    <a:avLst/>
                  </a:prstGeom>
                  <a:solidFill>
                    <a:srgbClr val="727ca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10"/>
                  <p:cNvSpPr/>
                  <p:nvPr/>
                </p:nvSpPr>
                <p:spPr>
                  <a:xfrm>
                    <a:off x="1972080" y="4008240"/>
                    <a:ext cx="0" cy="229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1"/>
                  <p:cNvSpPr/>
                  <p:nvPr/>
                </p:nvSpPr>
                <p:spPr>
                  <a:xfrm>
                    <a:off x="1972080" y="6299280"/>
                    <a:ext cx="3467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5" name="Freeform 12"/>
                <p:cNvSpPr/>
                <p:nvPr/>
              </p:nvSpPr>
              <p:spPr>
                <a:xfrm>
                  <a:off x="1972080" y="4043880"/>
                  <a:ext cx="1333800" cy="22104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2210400"/>
                    <a:gd name="textAreaBottom" fmla="*/ 2210760 h 2210400"/>
                  </a:gdLst>
                  <a:ahLst/>
                  <a:rect l="textAreaLeft" t="textAreaTop" r="textAreaRight" b="textAreaBottom"/>
                  <a:pathLst>
                    <a:path w="2400" h="3300">
                      <a:moveTo>
                        <a:pt x="0" y="3187"/>
                      </a:moveTo>
                      <a:cubicBezTo>
                        <a:pt x="250" y="3202"/>
                        <a:pt x="421" y="3180"/>
                        <a:pt x="600" y="3187"/>
                      </a:cubicBezTo>
                      <a:cubicBezTo>
                        <a:pt x="779" y="3194"/>
                        <a:pt x="946" y="3237"/>
                        <a:pt x="1072" y="3232"/>
                      </a:cubicBezTo>
                      <a:cubicBezTo>
                        <a:pt x="1198" y="3227"/>
                        <a:pt x="1304" y="3300"/>
                        <a:pt x="1357" y="3157"/>
                      </a:cubicBezTo>
                      <a:cubicBezTo>
                        <a:pt x="1410" y="3014"/>
                        <a:pt x="1360" y="2694"/>
                        <a:pt x="1387" y="2377"/>
                      </a:cubicBezTo>
                      <a:cubicBezTo>
                        <a:pt x="1414" y="2060"/>
                        <a:pt x="1473" y="1627"/>
                        <a:pt x="1522" y="1252"/>
                      </a:cubicBezTo>
                      <a:cubicBezTo>
                        <a:pt x="1571" y="877"/>
                        <a:pt x="1634" y="254"/>
                        <a:pt x="1680" y="127"/>
                      </a:cubicBezTo>
                      <a:cubicBezTo>
                        <a:pt x="1726" y="0"/>
                        <a:pt x="1786" y="300"/>
                        <a:pt x="1800" y="487"/>
                      </a:cubicBezTo>
                      <a:cubicBezTo>
                        <a:pt x="1814" y="674"/>
                        <a:pt x="1771" y="965"/>
                        <a:pt x="1762" y="1252"/>
                      </a:cubicBezTo>
                      <a:cubicBezTo>
                        <a:pt x="1753" y="1539"/>
                        <a:pt x="1747" y="1902"/>
                        <a:pt x="1747" y="2212"/>
                      </a:cubicBezTo>
                      <a:cubicBezTo>
                        <a:pt x="1747" y="2522"/>
                        <a:pt x="1653" y="2949"/>
                        <a:pt x="1762" y="3112"/>
                      </a:cubicBezTo>
                      <a:cubicBezTo>
                        <a:pt x="1871" y="3275"/>
                        <a:pt x="2267" y="3172"/>
                        <a:pt x="2400" y="318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Freeform 13"/>
              <p:cNvSpPr/>
              <p:nvPr/>
            </p:nvSpPr>
            <p:spPr>
              <a:xfrm>
                <a:off x="4573080" y="4108680"/>
                <a:ext cx="600120" cy="20901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2090160"/>
                  <a:gd name="textAreaBottom" fmla="*/ 2090520 h 2090160"/>
                </a:gdLst>
                <a:ahLst/>
                <a:rect l="textAreaLeft" t="textAreaTop" r="textAreaRight" b="textAreaBottom"/>
                <a:pathLst>
                  <a:path w="1080" h="3120">
                    <a:moveTo>
                      <a:pt x="0" y="3090"/>
                    </a:moveTo>
                    <a:cubicBezTo>
                      <a:pt x="40" y="2910"/>
                      <a:pt x="80" y="2730"/>
                      <a:pt x="120" y="2550"/>
                    </a:cubicBezTo>
                    <a:cubicBezTo>
                      <a:pt x="160" y="2370"/>
                      <a:pt x="200" y="2310"/>
                      <a:pt x="240" y="2010"/>
                    </a:cubicBezTo>
                    <a:cubicBezTo>
                      <a:pt x="280" y="1710"/>
                      <a:pt x="300" y="1080"/>
                      <a:pt x="360" y="750"/>
                    </a:cubicBezTo>
                    <a:cubicBezTo>
                      <a:pt x="420" y="420"/>
                      <a:pt x="540" y="60"/>
                      <a:pt x="600" y="30"/>
                    </a:cubicBezTo>
                    <a:cubicBezTo>
                      <a:pt x="660" y="0"/>
                      <a:pt x="700" y="240"/>
                      <a:pt x="720" y="570"/>
                    </a:cubicBezTo>
                    <a:cubicBezTo>
                      <a:pt x="740" y="900"/>
                      <a:pt x="700" y="1620"/>
                      <a:pt x="720" y="2010"/>
                    </a:cubicBezTo>
                    <a:cubicBezTo>
                      <a:pt x="740" y="2400"/>
                      <a:pt x="800" y="2730"/>
                      <a:pt x="840" y="2910"/>
                    </a:cubicBezTo>
                    <a:cubicBezTo>
                      <a:pt x="880" y="3090"/>
                      <a:pt x="920" y="3060"/>
                      <a:pt x="960" y="3090"/>
                    </a:cubicBezTo>
                    <a:cubicBezTo>
                      <a:pt x="1000" y="3120"/>
                      <a:pt x="1040" y="3105"/>
                      <a:pt x="1080" y="30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 Box 14"/>
            <p:cNvSpPr/>
            <p:nvPr/>
          </p:nvSpPr>
          <p:spPr>
            <a:xfrm>
              <a:off x="4468680" y="6308640"/>
              <a:ext cx="1015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5"/>
            <p:cNvSpPr/>
            <p:nvPr/>
          </p:nvSpPr>
          <p:spPr>
            <a:xfrm>
              <a:off x="2346480" y="6308640"/>
              <a:ext cx="14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ксцитац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6"/>
            <p:cNvSpPr/>
            <p:nvPr/>
          </p:nvSpPr>
          <p:spPr>
            <a:xfrm>
              <a:off x="4513680" y="6306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мис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7"/>
            <p:cNvSpPr/>
            <p:nvPr/>
          </p:nvSpPr>
          <p:spPr>
            <a:xfrm>
              <a:off x="4778640" y="3720960"/>
              <a:ext cx="1280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8"/>
            <p:cNvSpPr/>
            <p:nvPr/>
          </p:nvSpPr>
          <p:spPr>
            <a:xfrm>
              <a:off x="2787120" y="376848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λ</a:t>
              </a:r>
              <a:r>
                <a:rPr b="0" lang="sr-Latn-CS" sz="4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9"/>
            <p:cNvSpPr/>
            <p:nvPr/>
          </p:nvSpPr>
          <p:spPr>
            <a:xfrm>
              <a:off x="2920680" y="4367880"/>
              <a:ext cx="19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0"/>
            <p:cNvSpPr/>
            <p:nvPr/>
          </p:nvSpPr>
          <p:spPr>
            <a:xfrm>
              <a:off x="3143160" y="4365720"/>
              <a:ext cx="154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s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м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4" name="Object 8"/>
          <p:cNvGraphicFramePr/>
          <p:nvPr/>
        </p:nvGraphicFramePr>
        <p:xfrm>
          <a:off x="6126120" y="4060800"/>
          <a:ext cx="435924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6120" y="4060800"/>
                    <a:ext cx="435924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140280" y="326880"/>
            <a:ext cx="31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ФОТОМЕТ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41320" y="1508040"/>
            <a:ext cx="103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личин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емијск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4017960" y="2454120"/>
          <a:ext cx="4338720" cy="32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2454120"/>
                    <a:ext cx="4338720" cy="32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3156840" y="326880"/>
            <a:ext cx="41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ПЕКТРОФОТО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1919160" y="1413000"/>
            <a:ext cx="82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фракциј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лост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лази кроз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твор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ругим речима, овај уређај мери количину светлости која је прошла кроз, односно индиректно мери количину апсорбоване светлости у узо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6881760" y="4562640"/>
            <a:ext cx="3633840" cy="1595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"/>
          <p:cNvPicPr/>
          <p:nvPr/>
        </p:nvPicPr>
        <p:blipFill>
          <a:blip r:embed="rId2"/>
          <a:stretch/>
        </p:blipFill>
        <p:spPr>
          <a:xfrm>
            <a:off x="1828800" y="4564080"/>
            <a:ext cx="48960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решка мерења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5" name="Content Placeholder 3" descr=""/>
          <p:cNvPicPr/>
          <p:nvPr/>
        </p:nvPicPr>
        <p:blipFill>
          <a:blip r:embed="rId1"/>
          <a:stretch/>
        </p:blipFill>
        <p:spPr>
          <a:xfrm>
            <a:off x="2092320" y="2174760"/>
            <a:ext cx="1584360" cy="215604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4168800" y="23652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=100, грешка 0.1(1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 =10000, грешка 0.01 (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рење треба да траје довољно дуго да грешка мерења буде у прихватљивом опс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КОНТРОЛА КВАЛИТЕТА  (QC, Quality Control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ЧНОСТ : колико је измерена концентрација блиска реалној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ЕЦИФИЧНОСТ : има ли интерференције са сличним супстанцам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НЗИТИВНОСТ: колика је најмања детектабилна концентрациј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ЦИЗНОСТ : ≈ репродуцибилност; ниска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-a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a-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ријабилност (&lt; 10%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1"/>
          <a:stretch/>
        </p:blipFill>
        <p:spPr>
          <a:xfrm>
            <a:off x="2003400" y="3549600"/>
            <a:ext cx="6224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940200" y="325440"/>
            <a:ext cx="51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ТАЧНОСТ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РЕЦИЗ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File:High accuracy Low precisio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656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File:High precision Low accuracy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70920" y="3162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12"/>
          <p:cNvSpPr/>
          <p:nvPr/>
        </p:nvSpPr>
        <p:spPr>
          <a:xfrm>
            <a:off x="3012120" y="504684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6954840" y="507528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ТАЧАН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ли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А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File:Accuracy and precision.sv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00360" y="789120"/>
            <a:ext cx="4667400" cy="25128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1">
            <a:hlinkClick r:id="rId7"/>
          </p:cNvPr>
          <p:cNvSpPr/>
          <p:nvPr/>
        </p:nvSpPr>
        <p:spPr>
          <a:xfrm>
            <a:off x="152388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5969160" y="41590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3935520" y="907920"/>
            <a:ext cx="2232000" cy="32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3071880" y="907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CV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"/>
          <p:cNvSpPr/>
          <p:nvPr/>
        </p:nvSpPr>
        <p:spPr>
          <a:xfrm>
            <a:off x="4025880" y="2276640"/>
            <a:ext cx="2070000" cy="82692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168" h="430">
                <a:moveTo>
                  <a:pt x="0" y="217"/>
                </a:moveTo>
                <a:cubicBezTo>
                  <a:pt x="22" y="239"/>
                  <a:pt x="93" y="313"/>
                  <a:pt x="134" y="341"/>
                </a:cubicBezTo>
                <a:cubicBezTo>
                  <a:pt x="175" y="369"/>
                  <a:pt x="194" y="373"/>
                  <a:pt x="249" y="383"/>
                </a:cubicBezTo>
                <a:cubicBezTo>
                  <a:pt x="304" y="393"/>
                  <a:pt x="365" y="404"/>
                  <a:pt x="465" y="401"/>
                </a:cubicBezTo>
                <a:cubicBezTo>
                  <a:pt x="565" y="398"/>
                  <a:pt x="733" y="430"/>
                  <a:pt x="850" y="363"/>
                </a:cubicBezTo>
                <a:cubicBezTo>
                  <a:pt x="967" y="296"/>
                  <a:pt x="1115" y="60"/>
                  <a:pt x="116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008600" y="33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ил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ци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340160" y="3005280"/>
            <a:ext cx="0" cy="1131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9"/>
          <p:cNvSpPr/>
          <p:nvPr/>
        </p:nvSpPr>
        <p:spPr>
          <a:xfrm>
            <a:off x="5500800" y="3019320"/>
            <a:ext cx="1440" cy="110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0"/>
          <p:cNvSpPr/>
          <p:nvPr/>
        </p:nvSpPr>
        <p:spPr>
          <a:xfrm>
            <a:off x="4314960" y="2995560"/>
            <a:ext cx="1185840" cy="1147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747" h="723">
                <a:moveTo>
                  <a:pt x="15" y="711"/>
                </a:moveTo>
                <a:lnTo>
                  <a:pt x="15" y="0"/>
                </a:lnTo>
                <a:lnTo>
                  <a:pt x="159" y="36"/>
                </a:lnTo>
                <a:lnTo>
                  <a:pt x="264" y="39"/>
                </a:lnTo>
                <a:lnTo>
                  <a:pt x="432" y="45"/>
                </a:lnTo>
                <a:lnTo>
                  <a:pt x="573" y="45"/>
                </a:lnTo>
                <a:lnTo>
                  <a:pt x="684" y="33"/>
                </a:lnTo>
                <a:lnTo>
                  <a:pt x="744" y="6"/>
                </a:lnTo>
                <a:lnTo>
                  <a:pt x="747" y="720"/>
                </a:lnTo>
                <a:lnTo>
                  <a:pt x="0" y="723"/>
                </a:lnTo>
                <a:lnTo>
                  <a:pt x="15" y="711"/>
                </a:lnTo>
                <a:close/>
              </a:path>
            </a:pathLst>
          </a:custGeom>
          <a:solidFill>
            <a:srgbClr val="0033cc">
              <a:alpha val="6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978360" y="4192560"/>
            <a:ext cx="22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до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орња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1000" spc="-1" strike="noStrike">
                <a:solidFill>
                  <a:srgbClr val="000000"/>
                </a:solidFill>
                <a:latin typeface="Calibri"/>
                <a:ea typeface="Calibri"/>
              </a:rPr>
              <a:t>гр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3094200" y="5467320"/>
            <a:ext cx="45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Calibri"/>
              </a:rPr>
              <a:t>GLP, Good Laboratory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1228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FAKTORI KOJI UTIČU NA</a:t>
            </a: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pl-PL" sz="3200" spc="-1" strike="noStrike">
                <a:solidFill>
                  <a:srgbClr val="464653"/>
                </a:solidFill>
                <a:latin typeface="Bookman Old Style"/>
              </a:rPr>
              <a:t>LABORATORIJSKE NALA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18" name="Content Placeholder 3" descr=""/>
          <p:cNvPicPr/>
          <p:nvPr/>
        </p:nvPicPr>
        <p:blipFill>
          <a:blip r:embed="rId1"/>
          <a:srcRect l="32220" t="18768" r="17219" b="12332"/>
          <a:stretch/>
        </p:blipFill>
        <p:spPr>
          <a:xfrm>
            <a:off x="1938240" y="1141560"/>
            <a:ext cx="73519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20" name="Content Placeholder 3" descr=""/>
          <p:cNvPicPr/>
          <p:nvPr/>
        </p:nvPicPr>
        <p:blipFill>
          <a:blip r:embed="rId1"/>
          <a:srcRect l="34860" t="35808" r="19996" b="44192"/>
          <a:stretch/>
        </p:blipFill>
        <p:spPr>
          <a:xfrm>
            <a:off x="2646360" y="1536840"/>
            <a:ext cx="7238880" cy="18032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rcRect l="43100" t="58135" r="31201" b="19111"/>
          <a:stretch/>
        </p:blipFill>
        <p:spPr>
          <a:xfrm>
            <a:off x="4048200" y="3852720"/>
            <a:ext cx="31338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Шематски приказ заједничких делова инструмената који се користе у оптичкој спектроскопији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BE10-CADC-403D-8D90-53A4CDBCFAEC}" type="slidenum">
              <a:rPr b="0" lang="en-US" sz="1400" spc="-1" strike="noStrike">
                <a:solidFill>
                  <a:srgbClr val="464653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638520" y="1219320"/>
            <a:ext cx="4203720" cy="49338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2467080" y="6292800"/>
            <a:ext cx="73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рпци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флуоресцне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)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емисиона спектроскоп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243080" y="3005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Cambria"/>
              </a:rPr>
              <a:t>Извори зрачења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52600" y="1327320"/>
            <a:ext cx="10191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зрачења су саставни део сваког апарата који се користи у оптичким методам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врсти емитованог спектра, извори зрачења се деле на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континуал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ори који емитују дисконтинуалан спекта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184-5F75-49C7-BE61-912B10FE5E1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71520" y="1390320"/>
            <a:ext cx="9820080" cy="47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инуални спектар је окарактерисан непрекидном расподелом енергије у широком интервалу таласних дужина без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сконтинуални спектар  се састоји од низа одвојених, мање или више оштрих линија и тра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тра граница између ове две врсте извора не постоји јер има извора који у једној области таласних дужина емитују континуални спектар а у другој дисконтинуални (водонична ламп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BF0F-2952-4CA0-8365-83466D2E7889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61440" y="1447560"/>
            <a:ext cx="109918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апсорпционих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етод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онтинуални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емисионих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дисконтинуални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зрачење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Св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извори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рактеришу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спектралном</a:t>
            </a: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поделом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рактером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њене</a:t>
            </a:r>
            <a:r>
              <a:rPr b="1" lang="en-US" sz="24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временске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A25-7E48-4864-8F40-5E8708C8BA6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8120" y="1251000"/>
            <a:ext cx="116157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Максиму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мисиј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помер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ка</a:t>
            </a:r>
            <a:r>
              <a:rPr b="1" lang="it-IT" sz="24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ff"/>
                </a:solidFill>
                <a:latin typeface="Calibri"/>
              </a:rPr>
              <a:t>нижим</a:t>
            </a: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ласним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ужинам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усијаном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телу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расте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W</a:t>
            </a:r>
            <a:r>
              <a:rPr b="1" lang="sr-Latn-RS" sz="2400" spc="-1" strike="noStrike">
                <a:solidFill>
                  <a:srgbClr val="464653"/>
                </a:solidFill>
                <a:latin typeface="Gill Sans MT"/>
              </a:rPr>
              <a:t>ien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-</a:t>
            </a:r>
            <a:r>
              <a:rPr b="1" lang="sr-RS" sz="2400" spc="-1" strike="noStrike">
                <a:solidFill>
                  <a:srgbClr val="464653"/>
                </a:solidFill>
                <a:latin typeface="Calibri"/>
              </a:rPr>
              <a:t>ов</a:t>
            </a:r>
            <a:r>
              <a:rPr b="1" lang="it-IT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акон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мерања</a:t>
            </a:r>
            <a:r>
              <a:rPr b="1" lang="it-IT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523880" y="3049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6531120" y="1935000"/>
          <a:ext cx="228744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1120" y="1935000"/>
                    <a:ext cx="228744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Slide Number Placeholder 4"/>
          <p:cNvSpPr/>
          <p:nvPr/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162-A9EC-4F1A-B8E1-4CB3EE92813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crnotelo"/>
          <p:cNvPicPr/>
          <p:nvPr/>
        </p:nvPicPr>
        <p:blipFill>
          <a:blip r:embed="rId3"/>
          <a:stretch/>
        </p:blipFill>
        <p:spPr>
          <a:xfrm>
            <a:off x="4876920" y="3713040"/>
            <a:ext cx="4881600" cy="2927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35040" y="3118320"/>
            <a:ext cx="109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64653"/>
                </a:solidFill>
                <a:latin typeface="Comic Sans MS"/>
                <a:ea typeface="Arial"/>
              </a:rPr>
              <a:t>Spektralna raspodel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zra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č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nja 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rnog tel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sr-R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lanck-ovoj for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464653"/>
                </a:solidFill>
                <a:latin typeface="Cambria"/>
              </a:rPr>
              <a:t>Спектроскопиј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снива се на интеракцији електромагнетног зрачења и супстанц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олекул ће апсорбовати фотон ако је његова енергија једнака разлици два енергетска тања у молекули, након тог догађаја мења се стање молекула, расподела електрона, електрични диполни момент, магнетни момент језгра или електрон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 свакој методи спектроскопије могуће су интеракције фотона оних енергија које су одрђене структуром и својствима молекуларног система узор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7:04:49Z</dcterms:created>
  <dc:creator>Milovan D. Matovic</dc:creator>
  <dc:description/>
  <dc:language>en-US</dc:language>
  <cp:lastModifiedBy>Windows User</cp:lastModifiedBy>
  <dcterms:modified xsi:type="dcterms:W3CDTF">2024-09-02T10:55:53Z</dcterms:modified>
  <cp:revision>360</cp:revision>
  <dc:subject/>
  <dc:title>Slide 1</dc:title>
</cp:coreProperties>
</file>